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18D-E250-47C2-AF4C-AB9E3E98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1BF-782F-4021-A0DE-512C212D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BEF7D-2C9A-4F9A-B777-049AA90A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854CE-2D46-4974-8011-E611919E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3DB01-50A6-42F8-8472-A3319662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511CF-E74D-4D4E-8710-E0F17320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CA5CF-4F02-4C92-A2E7-746E284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2A303-6C0E-4967-8E82-1A225530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0E38F-7426-4977-9ED8-E1AC677A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F32B9-1D95-4C3E-9357-2ED3618B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8F39D-3726-4A0A-A352-FB69A742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E0736-1B04-417F-AC27-2F1261E4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725-9934-400C-A4B5-AF43799A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A1A01-39E3-4AAB-B34B-8949A1B4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A5FDB-DA27-43BC-891E-84EEF5BD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B71B3-E829-4BAA-91E9-3B151763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31242-1F6C-42F6-BE16-4BAFB940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CC103-A7D6-4F58-A817-2CB24F56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72355-E2C6-4DCF-9244-354A0BC3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43640-9755-4895-B231-CEA6B149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EC78A-B88E-448A-8054-817F8EB1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8CFB9-BE34-4FAC-A843-370B391B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96AB8-8148-4851-8A0B-8094423F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ADA-CE58-4C5D-8B9F-1AC8F2D4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DF087-78A4-467F-A964-D9D52529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A70EF-DE7B-4B84-8174-EE996106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EDDF1-3B62-41D9-BB24-35F0A73C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E4FAE-DE06-4133-B50D-F821A572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B2DAE-7CB7-470C-95C7-8A574699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5724D-8B3E-4573-BB84-2BFA725A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F9B79-3AF5-43D9-96A3-7CB5DF7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A0211-63B3-4E6A-851D-0857B8F0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F2358-99F8-4199-B685-5B0EB3A0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96D96-F00A-4A2F-867A-3FF292F6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94F2-2F85-4728-9D52-6CB8E550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6BB45-3362-4EC5-8558-2308579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D3195-CB18-4C83-9AD3-8AD65D3A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F5141-6543-4F63-B63A-D4EDA7D0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83F2D-5616-4EC2-8EC9-70A1B488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E88D7-6BC6-4626-A675-B1F1F0FF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F7929-8780-4057-B0B8-D460DF7B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C6AA9-6D78-43E5-8A4A-59A426C4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D40AE-4F94-48B2-B650-7AD34A3B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1E22A-1B5F-49AF-9D40-967FA2F8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36801-6D2E-41A8-9DA5-8B7EB55B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7C82-888A-48A2-ADDF-FFA83018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F6635-0AEE-432D-9AA0-E577D864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E53D2-9D18-4442-9DB5-061030C9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D2152-35CA-4325-AE54-30CC6D7D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69908-9732-49B5-A564-D9CB772C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484A4-16A9-4BF5-B4CB-496B8126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AB760-7AD2-4F5F-AE60-0E0713B8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5C933-8AB6-4F98-8E62-66DCD0FE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08BA6-F68A-4BDF-8BEA-E1CE5FB2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B9E44-F9CE-4177-A81C-B7F06F68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D6D31-3579-4640-A63C-05F544BA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1DBF-0D58-4C0D-92BF-C4DBA969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D52C3-F7B0-4BEA-A5C9-8F79F062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9E14B-1DF5-452F-80DE-BA554BC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24DCB-D331-4CE2-B83F-2A5570A2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7FC36-405B-47C4-86A5-3F28ED9B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3E6D7-5C54-4886-9701-5673D3F7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726D0-E236-4E3F-83BB-25ABCE8B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BA0E4-04F9-48E3-A78B-58C89B2B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03A1F-9CCF-479F-A34B-B8E2A345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CC595-CAF0-49AB-9FCA-7556AA1F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F843A-500E-41C7-91A5-1AB2DBFC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39BC-2C0D-433F-B409-6FC4E27B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72566-F27A-41A7-B90C-D5A6DBE3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BD159-381C-420F-9F54-F2A680DF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ABC7C-DBA4-4913-91DD-8D6ED88B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345D2-DA2E-4B9E-BD9A-FEA5B0AF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5BAEC-0406-49FE-A61D-CDDF0911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C83F9-F591-48A7-AA2E-73D20C12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009F5-98EC-4FAF-8C46-63B7ABDB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158B9-80BD-4A59-A3D5-8EF94CA8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1AF52-02D0-487B-9DB4-B21CB3E7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D2C5A-3C48-45B5-96A3-399369A2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5A93-9D53-4DEA-AE05-BDC634B3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C5355-7C14-45CE-A403-FABE4288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1A9FE-766B-40C5-ABE0-ECAA6A7D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B3AD3-5CD8-4605-A0A1-F66DB7A6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790C6-BC68-43BE-A17A-4965CECC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A1059-1EAE-4928-B9EC-EBBE9BAE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CBCDD-7710-45D4-82C1-2A9DABA0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DD745-E1DC-4FFE-9FB7-F50D882E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EF585-0C8A-4704-9A14-AC187F4B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00F46-E8A4-41DB-A3E4-94DFF39F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EDDEE-F196-4952-BE9C-356614AF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490C-955D-4CCB-A945-577BD3FC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E909AD-D702-4D67-A028-615B9DD8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3FA8E8-17CB-4890-A9F0-1D2D4F4E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9DE12-70CC-40E2-8923-2D698540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65D69-C11A-4AE6-9AC0-BCF2475B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ED7CB-43FE-4F2F-B756-4B40D5C9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0A448-48CC-4310-B091-27E41E44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E639A-26CC-4FF5-8237-FE9A9101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527D2-CC1D-4D7C-AFA3-EFB6F902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F1A724-23E5-4C9A-A796-16F83EBE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92971-E795-488A-AA3A-A7C2345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AC48-C300-4FE1-90FB-43DB1D5E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95B7C-9DF1-4E48-B7B8-658164ED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6321F-E05C-429E-ACF2-C8DE3C43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8FEAC-791B-494D-9C31-2BA3C5B5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72127-572B-45AB-AFE4-57AD65EA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DA0507-0345-4C3C-BC14-8FC5E8E6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D25FF-C9A3-4E34-8E92-CE08DD9C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2A79D-2EB4-413D-98BC-DE9D2E71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B91D8-453E-45A0-87D4-A0985447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60F5B7-E885-40AC-8EA8-89A296C5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E97FF-4030-4277-A335-1BB24B7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0CC-2806-4779-B4B4-3290973C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3F1D-F90C-4263-84C2-E0B17145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60C6B-9A41-40FF-95CF-2EE717DA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546C62-F764-486A-9F66-B6642D1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F92B5-7768-44F2-B1D7-EB566C8C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E46D0-0635-491A-9705-A83C685E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C7E474-D22B-431D-8AF9-7B49261D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7892C-D2F8-4D68-A5F2-99BB5BAD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6CB6C-C80D-41DD-868B-1C9FBE86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13542-1B00-4788-B078-87CA285B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505AD-32E7-4B13-881D-59652CFF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C5C47-2CE8-4862-AB1E-D577D615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F9E4-BD4C-4D66-B4C0-DDF4C5DB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CE442-B7DD-4706-9C3D-A774C195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43C7D-EAEC-4DED-BD86-B0BFD28E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FDDB2-04C4-4000-9479-096E8C6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6E7594-B7A8-4915-A8AB-3AA91418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6AA372-D1FB-4E9E-981C-76B79DE3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FA476-3FA1-4D23-8EAB-4DAC63D5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E5E14-E12C-4ACD-802F-664651D5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9E8B4-7015-4B37-950B-E8F32D1B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60C3FA-80B8-467F-9154-A4381013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362CC-4296-42B5-A48D-24348675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8C3D-D89C-46BB-9AC8-8599A339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1478C-7F1A-4249-B31A-D09EFA50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191798-79D2-4B1F-A39B-FC2CF412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6FE7D-CA9D-470A-AA22-AFDFC908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395C63-E46E-4B98-808A-542DE7BD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C6F30-60D3-40FE-AA8B-B94C2F12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D1A1B9-6732-4A9D-AA64-9FF6C44C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5BA259-41BC-4024-B1D2-2413B0F7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159578-0705-4EA3-AB69-2CDEC8CD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64BBED-B29F-44A2-9DEA-32036B27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E0BF07-E9BF-457F-8D10-9BCA29E9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8B10-2F89-4543-9160-6F6B07C6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57F1A0-194F-4ED6-832C-D3E17050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7CFC51-F526-4365-835D-A7BDFEFB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158FAA-4B9A-42EE-9C61-1A796E3C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E0CAD-482F-41D0-9E80-A4382F2D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C806D2-DB22-4E41-ADB0-E1F0B371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5AE788-07B4-4891-B310-C8B1599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FDAB72-F48C-4EFB-BF3A-EE881241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CF17F-752C-4C8F-9EF0-4AB32CEE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A6672E-F90F-45EE-A1A9-668BD6C6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87384-3389-4FDB-A051-FED38D86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15D4-CADF-49EE-95B5-9A0F674C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57384-3C2D-447A-A6EF-9797EAA0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E3C9B-D253-4878-8393-8DA556A4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8F59B-2EE6-44DA-A610-2C2A1A0A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84B13B-17D4-4208-92E3-C285A370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D602C-8EE2-4366-BAC4-61268A5B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8A203-94A6-47B7-B29F-31F98D13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F6543-17EF-474F-B41A-BD815DC6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9D1F8B-9C50-4E50-BA4A-C93D0B25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64299-B41B-43D7-9972-9998AD0E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178920-0FE3-49BA-A1B7-5272580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3647-D79B-4896-A5F3-AB573DB7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9784D6-E6F6-4F99-9531-7202D8E6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21F48-43FD-4753-B575-748B0667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617B77-AB26-434E-818C-0986E5BE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41BE-9567-45E8-ACD9-4E231B49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C2069-D4DE-4924-8E34-D3699098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A5B6-821E-4502-B41A-20DC9C7C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A157-8E95-4ACD-A749-8B2D824D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1C3-C92F-4FEC-872E-0B573EFE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2D99-43BB-4437-8CA2-5320C102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5019-F745-4D3F-B0E7-E78BF728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BDA2-5299-4FDC-8BA3-507D7D43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6A80-F5F6-46FC-8EB2-9774BB71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7C12-E00F-4179-9493-F75E9EA6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D1146-BBC1-459B-A340-45654797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71BF0-2CA9-4397-8CD0-149EF2FF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A74B4-A9B6-40A8-A209-52F1BE54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2073D-EBDD-4405-A578-18E1776C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F257A-8A1E-4707-9A4B-17C91847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369-1A50-4E16-A0FC-D42837C7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65641-00A9-43C1-92BA-105E6CEC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52A2-7624-4878-B479-FC7F4943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9D60A-88FD-4685-B1E8-E7EAA567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C1F89-E3CA-4CEA-9E1D-787C937B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D681-3CE0-470F-A62C-48F3B92F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BC219-C608-4ACF-8ECC-E083C665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761B8-201D-429D-98F1-3E46E4F0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FAC2-86FF-4863-8771-ADA303A4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04578-647C-45D1-B497-F831B827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089A5-8BC9-467B-B171-4CF90281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B69-4880-4C2E-B1E6-5B4BB4FB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F12E7-638D-4EC3-9230-B6E9A3A4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955EB-472C-4F71-942F-9AC5BCA9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99A4F-A785-4394-A1C3-4977E63F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FBBA9-DCBF-4181-88A1-65351482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0D7C6-8914-45E4-BDA0-E2D81816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00C27-3F34-46CA-9C6D-8D6B8DFE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AA91-2A1D-4274-95B7-F5F4C973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984F1-6AD0-416B-8841-8933F25C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0A0F4-A2FA-4C5A-AE4B-7A11DA50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AD905-3A33-4177-8572-AB383A47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5A9-E92E-45FA-BDE6-82901563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13EF5-91BA-4027-8C5C-BB7C84E4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E4AE2-C4BB-4D63-AC9D-7A27AAC5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47D1C-2A1A-4192-B624-449F7CA6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7CC03-DD1E-43CA-8BF9-D6133E86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543F5-9A65-423B-A2E1-43DDC54D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4450D-02F3-4792-AB8B-68DBD28D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08F3B-13AF-466C-9E75-C94AD8B3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3AB0A-8F6C-48A2-9C3C-3AF9C0D9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9D80E-5798-4C35-994A-0A907AE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1C2B9-2F41-4116-BD48-672A5C96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EE8-36E4-489C-B52E-A3DCE28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D879C-747E-459F-967B-BAE366D3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72F31-0F3D-464D-B527-6810D5F7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9E60F-2AFA-4658-8B4F-35E31EDD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D0D58-907F-46A7-AB53-0CE58614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19B0-C4B8-4FB1-A561-40539A2E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C9D41-548E-4C0A-8922-AA003329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3E2B1-FBF1-4A15-84C1-FC4B11F3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F1F42-15A2-402F-B9E7-746AB90C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AB5B2-87DC-4EA9-A069-28C903F9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275ED-80D8-4987-85DF-B963A40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EAD-FD14-4163-9D94-4B99CF37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E0408-1D32-4C99-AFFA-4A5A866A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0E674-46B5-4783-9D91-9E460B05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98006-73DB-485D-9BC6-2E819C22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F91D9-D76B-4AA5-A2BD-10C246A9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083C7-D08E-4880-AB98-5041B633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2DCB6-7AE4-4178-8B9A-86ADE189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A388E-C650-4907-BF4C-502BE334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BCAEF-D988-45E7-BA6C-B0DA4E83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EFE0B-4E5E-4986-9980-08E028E2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D041C-7084-4C5C-BB85-186BD050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EF2-61E6-4F92-8CEA-A4BACF55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752BC-B278-4724-A9D9-7783502B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E1B5C-F09D-419C-A5FB-51A70C0D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56217-2085-4103-AB1C-C37E45B2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43129-4646-4A52-B2A1-94BBD13A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4813E-CEA6-4C98-918B-563860A3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52541-0BC7-434B-A377-A292E4EF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367E0-0E84-4E17-9FE4-7CC2FD52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2FEA9-0A52-4ACD-9EDC-AAFE8C31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E6332-20DF-411C-B5D9-92A6F11F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C6F6D-6E7B-4465-B863-055A50FA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1750-0736-4D10-8583-C67C91125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D8EC-F0B4-4B2A-80D7-A7D2677ACF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DDDA-657B-4E6D-BA8B-67CFB11656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4358-F129-4F6A-9A72-D8A296CF1C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AFA3-902A-488B-A85B-7FC5B66D4C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04DC-0DA5-48F0-B35C-8F48E04461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31CF-156E-4FE3-859B-5C154DFF32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45B4-32C2-4A22-B7AB-6D052126B3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02C7-9ECA-47D0-B1F3-F78B26F42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F6C2-A35E-4F41-8283-29628A3FF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2FA2-5EE8-46B0-8576-0FD242DE70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E449-8CA6-4829-817E-51FB99C2C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9F0A-6E9D-4B8B-82C2-D674B25521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A44E-4EE4-4623-A835-4F2CCD5E35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9A69-ACE4-45D9-B2DC-46A8BB85FE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ED4E-0EE5-468E-8E23-0596217104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1502-82F7-4FD8-B2EC-32553A5EC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0586-B433-499B-876E-A3C1279FA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4F3B-B242-4DA5-B94D-12D475B480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C9F0-7671-4408-AF2C-18BD44665F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C640-CF15-4855-9EF8-BAFA4A1672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D518-4CB8-4E42-9A49-2F64454166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BF1B-DC14-42CF-9C90-ADBEC9BF81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C8F3-81A2-42F3-B4C6-442CA3570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A2F3-F66D-4854-9982-F00A392942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189F-73C1-46DF-997D-93EC8E207B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1AFA-4C85-4060-992E-2DCBF290B1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E896-793C-46ED-9BD6-71D3A8012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1BF3-8E16-40D3-8C60-19BB5C5334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53E-101F-4564-B906-77841AD059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07ED-A149-464D-8545-0B921C53DB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4AF3-9549-4CDF-B1D4-BF085C0066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40A2-4AD0-4DEB-9EDE-926406636C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6B88-CB8C-49D5-A248-A1AF29AF72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ED97-922A-4966-82C1-37E1BAC328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1BC2-52F9-43A3-84FE-47DCC2A172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4AD6-776B-43CA-BF27-C24A83CEFB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5E94-FD94-44C5-8869-41DECA06F3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F8C7-70A3-4527-B530-C57787CACD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7969-35F9-4509-9778-F5AB683AE9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985680" y="3147840"/>
            <a:ext cx="717264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334360" cy="571500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357280"/>
            <a:ext cx="5713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492912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24640" cy="584856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714240"/>
            <a:ext cx="5713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857160" y="285768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857160" y="450072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7886520" cy="1438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" descr=""/>
          <p:cNvPicPr/>
          <p:nvPr/>
        </p:nvPicPr>
        <p:blipFill>
          <a:blip r:embed="rId2"/>
          <a:stretch/>
        </p:blipFill>
        <p:spPr>
          <a:xfrm>
            <a:off x="428760" y="2200320"/>
            <a:ext cx="8267400" cy="4657680"/>
          </a:xfrm>
          <a:prstGeom prst="rect">
            <a:avLst/>
          </a:prstGeom>
          <a:ln w="0">
            <a:noFill/>
          </a:ln>
        </p:spPr>
      </p:pic>
      <p:sp>
        <p:nvSpPr>
          <p:cNvPr id="1032" name="矩形 3"/>
          <p:cNvSpPr/>
          <p:nvPr/>
        </p:nvSpPr>
        <p:spPr>
          <a:xfrm>
            <a:off x="6929280" y="2214720"/>
            <a:ext cx="6429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1357200" y="2643120"/>
            <a:ext cx="7858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2739960" y="2617920"/>
            <a:ext cx="121464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4429080" y="2585880"/>
            <a:ext cx="178596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2214720" y="3071880"/>
            <a:ext cx="92844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"/>
          <p:cNvSpPr/>
          <p:nvPr/>
        </p:nvSpPr>
        <p:spPr>
          <a:xfrm>
            <a:off x="7572240" y="3857760"/>
            <a:ext cx="78588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9"/>
          <p:cNvSpPr/>
          <p:nvPr/>
        </p:nvSpPr>
        <p:spPr>
          <a:xfrm>
            <a:off x="1082520" y="4321080"/>
            <a:ext cx="178596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0"/>
          <p:cNvSpPr/>
          <p:nvPr/>
        </p:nvSpPr>
        <p:spPr>
          <a:xfrm>
            <a:off x="4071960" y="5143680"/>
            <a:ext cx="121428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1"/>
          <p:cNvSpPr/>
          <p:nvPr/>
        </p:nvSpPr>
        <p:spPr>
          <a:xfrm>
            <a:off x="831960" y="5632560"/>
            <a:ext cx="121428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2"/>
          <p:cNvSpPr/>
          <p:nvPr/>
        </p:nvSpPr>
        <p:spPr>
          <a:xfrm>
            <a:off x="1703520" y="6426360"/>
            <a:ext cx="1214280" cy="363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3"/>
          <p:cNvSpPr/>
          <p:nvPr/>
        </p:nvSpPr>
        <p:spPr>
          <a:xfrm>
            <a:off x="4645080" y="6389640"/>
            <a:ext cx="1214280" cy="341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500040" y="743040"/>
            <a:ext cx="81439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476280" y="1347840"/>
            <a:ext cx="81914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590400" y="1695600"/>
            <a:ext cx="7963200" cy="346680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1000080" y="1714680"/>
            <a:ext cx="47484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1000080" y="2143080"/>
            <a:ext cx="47484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"/>
          <p:cNvSpPr/>
          <p:nvPr/>
        </p:nvSpPr>
        <p:spPr>
          <a:xfrm>
            <a:off x="1071720" y="3000240"/>
            <a:ext cx="4744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5"/>
          <p:cNvSpPr/>
          <p:nvPr/>
        </p:nvSpPr>
        <p:spPr>
          <a:xfrm>
            <a:off x="1000080" y="3857760"/>
            <a:ext cx="47484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6"/>
          <p:cNvSpPr/>
          <p:nvPr/>
        </p:nvSpPr>
        <p:spPr>
          <a:xfrm>
            <a:off x="1000080" y="4357800"/>
            <a:ext cx="47484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714240" y="1233360"/>
            <a:ext cx="7715520" cy="439128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1143000" y="1285920"/>
            <a:ext cx="47484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1143000" y="2071800"/>
            <a:ext cx="47484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1071720" y="2928960"/>
            <a:ext cx="4744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1143000" y="3786120"/>
            <a:ext cx="47484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1071720" y="4643280"/>
            <a:ext cx="4744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2:2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